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75E-017C-4DF0-A74D-DD950D6AA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48DB-DADE-4B6C-B131-219884B0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DF7-6F6D-48D0-96BC-83AAD84F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862-A5BB-4C96-BF84-119615E2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69F-76CC-4C0F-AA9E-AFFCC98B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20F-D23C-4C8E-B704-E0344A6D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742-BE87-4055-B4A3-9AA2D82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C45-F1B5-4511-A018-EC681535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51A-6A21-4DBA-B32C-DA6BB69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078-9DD8-4D07-B5A1-CA28487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4ED-9EBF-4A8F-8777-0E084D94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F8F-FBBF-45E6-8003-D93540C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760-0539-407E-9012-5B0985CF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D79-3516-4622-B181-8D9179EA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001268"/>
          <p:cNvPicPr/>
          <p:nvPr/>
        </p:nvPicPr>
        <p:blipFill>
          <a:blip r:embed="rId2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324120" y="5181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92A-4DBC-4C0D-840B-1742DBA4F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90720" y="914400"/>
          <a:ext cx="7467480" cy="27129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’d like to help homeless peopl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e decided to try out for a volunteer after-school reading progra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You could ask hospitals to let you visit the kids and cheer them up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50" name="Oval 12"/>
          <p:cNvSpPr/>
          <p:nvPr/>
        </p:nvSpPr>
        <p:spPr>
          <a:xfrm>
            <a:off x="2895480" y="0"/>
            <a:ext cx="3454560" cy="82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Grammar Focu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90720" y="3657600"/>
          <a:ext cx="7467480" cy="320040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rio believes it can help him to get his future dream job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he volunteers there once a week to help kids lean to rea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I’m making some signs to put up around the schoo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5160" y="660240"/>
            <a:ext cx="609120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ithout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; estab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omething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omeone hap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in the ope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something happen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e something to somebody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elp someone who needs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hang or stick something on (a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467480" y="1484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83480" y="5229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u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391520" y="2133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553080" y="27050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ork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7238880" y="4581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offe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740720" y="587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54380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95880" y="3352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homeles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667640" y="833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3780000" y="1628640"/>
            <a:ext cx="2376360" cy="20163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V="1">
            <a:off x="2771640" y="1196640"/>
            <a:ext cx="5040360" cy="10494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3995640" y="1844640"/>
            <a:ext cx="3457800" cy="9698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4211640" y="2492280"/>
            <a:ext cx="3313080" cy="8352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3635280" y="2997000"/>
            <a:ext cx="3024360" cy="105876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4572000" y="4581360"/>
            <a:ext cx="3240000" cy="1656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5651640" y="4292640"/>
            <a:ext cx="2089080" cy="720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4932360" y="4941720"/>
            <a:ext cx="2448000" cy="6890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6156360" y="5589720"/>
            <a:ext cx="1655640" cy="465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1187280" y="260280"/>
            <a:ext cx="71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Can you match the phra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413000"/>
          <a:ext cx="8229600" cy="4460760"/>
        </p:xfrm>
        <a:graphic>
          <a:graphicData uri="http://schemas.openxmlformats.org/drawingml/2006/table">
            <a:tbl>
              <a:tblPr/>
              <a:tblGrid>
                <a:gridCol w="2016000"/>
                <a:gridCol w="4330800"/>
                <a:gridCol w="1882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hrasal verb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nt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eer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looks sad. Let’s cheer him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e sb h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ive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’re going to give out money to the po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ome up wi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need to come up with some ide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k 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28"/>
          <p:cNvSpPr/>
          <p:nvPr/>
        </p:nvSpPr>
        <p:spPr>
          <a:xfrm>
            <a:off x="2923200" y="609480"/>
            <a:ext cx="196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一、定义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之后加介词或副词构成短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种特定的含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称为动词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二、分类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副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它类动词词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3640" y="692280"/>
            <a:ext cx="8507160" cy="5433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动词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介词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上去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fter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照料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to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 to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欢迎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hello to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 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相当于及物动词，其后必须带宾语，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无论是名词还是代词，都要放在介词之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is looking after hi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lways takes care of thes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动词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副词”所构成的短语义分为两类：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动词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副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n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穿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ff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down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可以带宾语，宾语若是名词，放在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后皆可；宾语若是人称代词，只能放在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He took off his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动词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vi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副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on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赶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up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home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家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in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down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 up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类短语属于不及物动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可以带宾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Come on! The bus is co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47640" y="1628640"/>
            <a:ext cx="4176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 the d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the s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 to work/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a look/s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su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yo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 shop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tch TV/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755640" y="69228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其它类动词词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ut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常用短语及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492360" y="2133720"/>
            <a:ext cx="5327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上，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举起，表现出，张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迟，拖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入，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翻译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下，放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出，伸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iv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56000" y="1413000"/>
            <a:ext cx="4032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屈服，让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发，散发；用尽，耗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捐赠，赠送；分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还，恢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出，放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18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al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59280" y="1916280"/>
            <a:ext cx="5545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问（某人）；号召；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电话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使人想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来，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车，船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需要，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不定式是一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非谓语动词形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其结构为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＋动词原形”，其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是介词，而是动词不定式的符号，称为小品词，动词不定式没有人称和数的变化。动词不定式和其后面的名词等构成不定式短语，在句子中可以用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主语、表语、宾语、补足语、定语、状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本单元主要学习其作宾语，状语，宾补的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894400" y="228600"/>
            <a:ext cx="27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不定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４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由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ak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356000" y="1700280"/>
            <a:ext cx="36007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回；使疑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拿走，减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下，记下；拆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占据空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接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下；飞机起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402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look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f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ou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140360" y="981000"/>
            <a:ext cx="432108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照顾，照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寻找，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调查；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浏览，快速地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查找，查询；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起来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how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00720" y="2421000"/>
            <a:ext cx="367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，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炫耀，卖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43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ur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引导的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203640" y="1268280"/>
            <a:ext cx="56894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音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大；出现，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煤气、水、电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音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小；拒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助；转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转，翻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还，就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果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证明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生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533520" y="2819520"/>
            <a:ext cx="8153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 want to_______  my plan to work in an   animal hospital until next summer. I’m too busy with my studi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She hopes to________________ at least five primary schools to ask if they need volunteers for their after-school progr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74320" y="533520"/>
            <a:ext cx="88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a Fill in the blanks with phrasal verbs in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838080" y="1447920"/>
            <a:ext cx="69343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ut up     hand out   call up    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me up with     give out        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743200" y="28195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t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10600" y="464832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l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762120" y="1066680"/>
            <a:ext cx="79246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ur class is trying to____________ some   ideas to_________ sick children because they are often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e decided to _________signs around the school and_________ notices to tell students about the book sale. We will_________ the money from the sale to homeless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952520" y="114300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e up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62680" y="167652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e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039200" y="29718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895480" y="36576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n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866560" y="4191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v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04920" y="571680"/>
            <a:ext cx="883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 I’d like ______ homeles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She decided _________ for a volunteer after-school reading progr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) You could ask hospitals ____ you visit the kids and cheer them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 Mario believes it can help him _____ his future dream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) She volunteers there once a week ______ kids learn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) I’m making some signs ________ around th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8880" y="442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363760" y="53352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8160" y="10666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try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488560" y="225432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00760" y="327672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392960" y="434340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685960" y="49528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334480" y="541008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pu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0880" y="1066680"/>
            <a:ext cx="86868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want _________ (become) a policeman one da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wants the students _____ (eat) we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teacher made his students _____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　　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ome) into the meeting room on ti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 boy was free _____ (go) where he lik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Nobody tells him what _____ (do) nex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457200"/>
            <a:ext cx="828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根据提示完成下列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11840" y="106668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335920" y="236232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936480" y="30481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344840" y="42670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335560" y="55627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points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I’v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n out of = use up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完”、“卖光”。句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是人或使用的物。注意不能用于被动语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I a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ning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y money.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money is running out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nning out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gas.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car is running out of the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y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在外貌、性格等方面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像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aft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思相近的词组还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去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like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x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 up = repair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修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fasten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安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w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w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意为“赠送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5345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宾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动词不定式（短语）可以放在一些动词后面用作宾语，能以动词不定式作宾语的动词有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begin, want, remember, agree, learn, like, decide, fail, pretend, demand, refu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tell you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egin to work at eight every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forget to lock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ld you like to go and have a picnic with u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4582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’d like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sending money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imal Helpers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 an organiza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disabl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“Animal Helpers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助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帮助残疾人而建立的组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thank sb. for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感谢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ank you for your flower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set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的是一个省去关系代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语从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omas has a lab set up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8600" y="85104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You helped to mak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sible for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Luck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4920" y="2286000"/>
            <a:ext cx="8839080" cy="1068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句中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式宾语，真正的宾语是后面的动词不定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Luck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发现学好英语对我们来说很有必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i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cessary for u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learn English w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62120" y="1066680"/>
            <a:ext cx="7704000" cy="470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2680" y="1220760"/>
            <a:ext cx="8458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超链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还可用作形式主语，而把真正的主语置于句尾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太多的电视对你的眼睛有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s bad for your ey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watch too much T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到你真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so nic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excited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idea of having a do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28600" y="1905120"/>
            <a:ext cx="8610480" cy="194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 excited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意为“对……感到兴奋”，主语通常是人 ；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ci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意为“令人感到兴奋的”，主语通常是物或事件。其他类似的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rprising / surprise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；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resting /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等也是这样区分的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80880" y="4952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对这本有趣的书很感兴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ver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nteres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i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nteres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424720" cy="5434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You see,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’m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le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ve a “dog-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kindness!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句中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ble 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“能够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事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替换，主语为物时一般都使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将来时和完成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不能用于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后面，所以常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ble to d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替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介词短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原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接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词或代词宾语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连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常接从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Then one day last year, a friend of mine said that she would like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hel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为 “使某人脱离困境”可分开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" y="28195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我失业的时候没有人帮助我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bod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I lost my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有点出乎意料但我想如果价格合适的话我可以帮忙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 unexpected but I coul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f the price was right, I though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24000" y="189000"/>
            <a:ext cx="84960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3333ff"/>
                </a:solidFill>
                <a:latin typeface="Times New Roman"/>
              </a:rPr>
              <a:t>开灯的故事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有一个盲人住在一栋楼里。每天晚上他都会到楼下花园去散步。奇怪的是，不论是上楼还是下楼，他虽然只能顺着墙摸索，却一定要按亮楼道里的灯。一天，一个邻居忍不住，好奇地问道：“你的眼睛看不见，为何还要开灯呢？”。盲人回答道：“开灯能给别人上下楼带来方便，也会给我带来方便。”邻居疑惑地问道：“开灯能给你带来什么方便呢？”。盲人答道：“开灯后，上下楼的人都会看见东西，就不会把我撞倒了，这不就给我方便了吗。”邻居这才恍然大悟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68360" y="31417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多时候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帮助别人就是帮助自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在帮助别人的时候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收获也许会远远大于你的付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68360" y="692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rose’s in her hand, the flavor in m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9640" y="2060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赠人玫瑰，手有余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802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宾语补足语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teacher asked u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ad English for half an hour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teacher often tells Ji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 to spend too   much time playing computer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lease let 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you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不定式作宾语补足语，表示宾语所做的动作，可以用动词不定式作宾语补足语的动词有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ll, ask, want, like, invite, encourage, hel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380880"/>
            <a:ext cx="86868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在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t, make, see, watch, hear, feel, notice, have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等感官听觉动词或使役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面作宾语补足语的动词不定式一般要省略动词不定式符号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以归纳为以下三种句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可以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不定式作宾语补足语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l /ask / want / would like / wish / suppose / invite /encourage /teach/ depend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sb.+ to do sth. 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told us to come earlier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you to go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 parents wish her to be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94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   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省“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不定式作宾语补足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t / make / have + sb. +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the boy go ou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made the bab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e / watch / hear / notice / feel + sb. +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aw the students play basketball on the playground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hear the girl sing in the next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 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可省可不省的：  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p sb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 sth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help my mothe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hous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否定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动词不定式的否定式是直接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前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ell the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to play football in the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动词不定式的否定式是直接在动词前面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et the bo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549360"/>
            <a:ext cx="85345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作状语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目的状语。如：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stopp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a res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调动词不定式所表示的目的时，动词不定式可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as t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原形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as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用于句首。如：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e bus stopp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as to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ick up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作结果状语。如：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woke u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ly to find everybody gon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is grandma liv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see the liberation of Chin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e is old enoug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609480" y="1371600"/>
            <a:ext cx="7620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在某些表示喜、怒、哀、乐等的形容词后作原因状语。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I’m prou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ave taken part in the competition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.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’m happy to have found many things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4-06-11T05:48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